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CARBRAKE.WAV" ContentType="audio/x-wav"/>
  <Override PartName="/ppt/media/zipdn102.wav" ContentType="audio/x-wav"/>
  <Override PartName="/ppt/media/boinng04.wav" ContentType="audio/x-wav"/>
  <Override PartName="/ppt/media/LASER.WAV" ContentType="audio/x-wav"/>
  <Override PartName="/ppt/media/hzipup01.wav" ContentType="audio/x-wav"/>
  <Override PartName="/ppt/media/elphrg01.wav" ContentType="audio/x-wav"/>
  <Override PartName="/ppt/media/mac.wav" ContentType="audio/x-wav"/>
  <Override PartName="/ppt/media/title.wav" ContentType="audio/x-wav"/>
  <Override PartName="/ppt/media/imrcv.wav" ContentType="audio/x-wav"/>
  <Override PartName="/ppt/media/lzipup01.wav" ContentType="audio/x-wav"/>
  <Override PartName="/ppt/media/bserie06.wav" ContentType="audio/x-wav"/>
  <Override PartName="/ppt/media/APPLAUSE.WAV" ContentType="audio/x-wav"/>
  <Override PartName="/ppt/media/help.wav" ContentType="audio/x-wav"/>
  <Override PartName="/ppt/media/RICOCHET.WAV" ContentType="audio/x-wav"/>
  <Override PartName="/ppt/media/TYPE.WAV" ContentType="audio/x-wav"/>
  <Override PartName="/ppt/media/zapbig0g.wav" ContentType="audio/x-wav"/>
  <Override PartName="/ppt/media/GUNSHOT.WAV" ContentType="audio/x-wav"/>
  <Override PartName="/ppt/media/DoorSlam.wav" ContentType="audio/x-wav"/>
  <Override PartName="/ppt/media/byipee04.wav" ContentType="audio/x-wav"/>
  <Override PartName="/ppt/media/EXPLODE.WAV" ContentType="audio/x-wav"/>
  <Override PartName="/ppt/media/doorbl07.wav" ContentType="audio/x-wav"/>
  <Override PartName="/ppt/media/DOOROPEN.WAV" ContentType="audio/x-wav"/>
  <Override PartName="/ppt/media/DRIVEBY.WAV" ContentType="audio/x-wav"/>
  <Override PartName="/ppt/media/j0097495.wav" ContentType="audio/x-wav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2BF-21B1-42AA-9C6D-4DF8B39C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850-4197-4CC3-9691-C9204947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51D-34C1-428D-A7DB-46D7A669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9BA8-CD6C-4A27-AE6F-4D4E7A00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C68-FF96-4292-B11F-0E99B833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A85-1158-4D55-9234-2F08862D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7AE-1427-44D5-92E3-A7AA9BFD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900-DC41-42E4-BB4D-EA4EBC94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E50-9151-44A3-8959-79A61223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B8B-347D-4B4C-BC7C-8CC9A583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BF2-59A8-43C0-B41E-3665B45F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70D-B7F4-4117-BBEA-37326FD2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ACF8-C24F-4445-A164-E533E0042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ac.wav"/><Relationship Id="rId3" Type="http://schemas.openxmlformats.org/officeDocument/2006/relationships/audio" Target="../media/DOOROPEN.WAV"/><Relationship Id="rId4" Type="http://schemas.openxmlformats.org/officeDocument/2006/relationships/audio" Target="../media/DOOROPEN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audio" Target="../media/RICOCHET.WAV"/><Relationship Id="rId9" Type="http://schemas.openxmlformats.org/officeDocument/2006/relationships/audio" Target="../media/RICOCHET.WAV"/><Relationship Id="rId10" Type="http://schemas.openxmlformats.org/officeDocument/2006/relationships/audio" Target="../media/lzipup01.wav"/><Relationship Id="rId11" Type="http://schemas.openxmlformats.org/officeDocument/2006/relationships/audio" Target="../media/lzipup01.wav"/><Relationship Id="rId12" Type="http://schemas.openxmlformats.org/officeDocument/2006/relationships/audio" Target="../media/lzipup01.wav"/><Relationship Id="rId13" Type="http://schemas.openxmlformats.org/officeDocument/2006/relationships/audio" Target="../media/lzipup01.wav"/><Relationship Id="rId14" Type="http://schemas.openxmlformats.org/officeDocument/2006/relationships/audio" Target="../media/lzipup01.wav"/><Relationship Id="rId15" Type="http://schemas.openxmlformats.org/officeDocument/2006/relationships/audio" Target="../media/lzipup01.wav"/><Relationship Id="rId16" Type="http://schemas.openxmlformats.org/officeDocument/2006/relationships/audio" Target="../media/lzipup01.wav"/><Relationship Id="rId17" Type="http://schemas.openxmlformats.org/officeDocument/2006/relationships/audio" Target="../media/lzipup01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lzipup01.wav"/><Relationship Id="rId21" Type="http://schemas.openxmlformats.org/officeDocument/2006/relationships/audio" Target="../media/DRIVEBY.WAV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lphrg01.wav"/><Relationship Id="rId3" Type="http://schemas.openxmlformats.org/officeDocument/2006/relationships/audio" Target="../media/elphrg01.wav"/><Relationship Id="rId4" Type="http://schemas.openxmlformats.org/officeDocument/2006/relationships/audio" Target="../media/elphrg01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boinng04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zipdn102.wav"/><Relationship Id="rId17" Type="http://schemas.openxmlformats.org/officeDocument/2006/relationships/audio" Target="../media/CARBRAKE.WAV"/><Relationship Id="rId18" Type="http://schemas.openxmlformats.org/officeDocument/2006/relationships/audio" Target="../media/CARBRAKE.WAV"/><Relationship Id="rId19" Type="http://schemas.openxmlformats.org/officeDocument/2006/relationships/audio" Target="../media/WHOOSH.WAV"/><Relationship Id="rId20" Type="http://schemas.openxmlformats.org/officeDocument/2006/relationships/audio" Target="../media/imrcv.wav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j0097495.wav"/><Relationship Id="rId6" Type="http://schemas.openxmlformats.org/officeDocument/2006/relationships/audio" Target="../media/doorbl07.wav"/><Relationship Id="rId7" Type="http://schemas.openxmlformats.org/officeDocument/2006/relationships/audio" Target="../media/doorbl07.wav"/><Relationship Id="rId8" Type="http://schemas.openxmlformats.org/officeDocument/2006/relationships/audio" Target="../media/doorbl07.wav"/><Relationship Id="rId9" Type="http://schemas.openxmlformats.org/officeDocument/2006/relationships/audio" Target="../media/doorbl07.wav"/><Relationship Id="rId10" Type="http://schemas.openxmlformats.org/officeDocument/2006/relationships/audio" Target="../media/doorbl07.wav"/><Relationship Id="rId11" Type="http://schemas.openxmlformats.org/officeDocument/2006/relationships/audio" Target="../media/doorbl07.wav"/><Relationship Id="rId12" Type="http://schemas.openxmlformats.org/officeDocument/2006/relationships/audio" Target="../media/doorbl07.wav"/><Relationship Id="rId13" Type="http://schemas.openxmlformats.org/officeDocument/2006/relationships/audio" Target="../media/doorbl07.wav"/><Relationship Id="rId14" Type="http://schemas.openxmlformats.org/officeDocument/2006/relationships/audio" Target="../media/GUNSHOT.WAV"/><Relationship Id="rId15" Type="http://schemas.openxmlformats.org/officeDocument/2006/relationships/audio" Target="../media/RICOCHET.WAV"/><Relationship Id="rId16" Type="http://schemas.openxmlformats.org/officeDocument/2006/relationships/audio" Target="../media/GUNSHOT.WAV"/><Relationship Id="rId17" Type="http://schemas.openxmlformats.org/officeDocument/2006/relationships/audio" Target="../media/RICOCHET.WAV"/><Relationship Id="rId18" Type="http://schemas.openxmlformats.org/officeDocument/2006/relationships/audio" Target="../media/GUNSHOT.WAV"/><Relationship Id="rId19" Type="http://schemas.openxmlformats.org/officeDocument/2006/relationships/audio" Target="../media/RICOCHET.WAV"/><Relationship Id="rId20" Type="http://schemas.openxmlformats.org/officeDocument/2006/relationships/audio" Target="../media/GUNSHOT.WAV"/><Relationship Id="rId21" Type="http://schemas.openxmlformats.org/officeDocument/2006/relationships/audio" Target="../media/RICOCHET.WAV"/><Relationship Id="rId22" Type="http://schemas.openxmlformats.org/officeDocument/2006/relationships/audio" Target="../media/elphrg01.wav"/><Relationship Id="rId23" Type="http://schemas.openxmlformats.org/officeDocument/2006/relationships/audio" Target="../media/EXPLODE.WAV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zipup01.wav"/><Relationship Id="rId3" Type="http://schemas.openxmlformats.org/officeDocument/2006/relationships/audio" Target="../media/boinng04.wav"/><Relationship Id="rId4" Type="http://schemas.openxmlformats.org/officeDocument/2006/relationships/audio" Target="../media/hzipup01.wav"/><Relationship Id="rId5" Type="http://schemas.openxmlformats.org/officeDocument/2006/relationships/audio" Target="../media/boinng04.wav"/><Relationship Id="rId6" Type="http://schemas.openxmlformats.org/officeDocument/2006/relationships/audio" Target="../media/lzipup01.wav"/><Relationship Id="rId7" Type="http://schemas.openxmlformats.org/officeDocument/2006/relationships/audio" Target="../media/zipdn102.wav"/><Relationship Id="rId8" Type="http://schemas.openxmlformats.org/officeDocument/2006/relationships/audio" Target="../media/lzipup01.wav"/><Relationship Id="rId9" Type="http://schemas.openxmlformats.org/officeDocument/2006/relationships/audio" Target="../media/DoorSlam.wav"/><Relationship Id="rId10" Type="http://schemas.openxmlformats.org/officeDocument/2006/relationships/audio" Target="../media/DoorSlam.wav"/><Relationship Id="rId11" Type="http://schemas.openxmlformats.org/officeDocument/2006/relationships/audio" Target="../media/DoorSlam.wav"/><Relationship Id="rId12" Type="http://schemas.openxmlformats.org/officeDocument/2006/relationships/audio" Target="../media/DoorSlam.wav"/><Relationship Id="rId13" Type="http://schemas.openxmlformats.org/officeDocument/2006/relationships/audio" Target="../media/DRIVEBY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zipdn102.wav"/><Relationship Id="rId17" Type="http://schemas.openxmlformats.org/officeDocument/2006/relationships/audio" Target="../media/title.wav"/><Relationship Id="rId18" Type="http://schemas.openxmlformats.org/officeDocument/2006/relationships/audio" Target="../media/doorbl07.wav"/><Relationship Id="rId19" Type="http://schemas.openxmlformats.org/officeDocument/2006/relationships/audio" Target="../media/doorbl07.wav"/><Relationship Id="rId20" Type="http://schemas.openxmlformats.org/officeDocument/2006/relationships/audio" Target="../media/doorbl07.wav"/><Relationship Id="rId21" Type="http://schemas.openxmlformats.org/officeDocument/2006/relationships/audio" Target="../media/zipdn102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help.wav"/><Relationship Id="rId25" Type="http://schemas.openxmlformats.org/officeDocument/2006/relationships/audio" Target="../media/byipee04.wav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zipup01.wav"/><Relationship Id="rId3" Type="http://schemas.openxmlformats.org/officeDocument/2006/relationships/audio" Target="../media/elphrg01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DRIVEBY.WAV"/><Relationship Id="rId9" Type="http://schemas.openxmlformats.org/officeDocument/2006/relationships/audio" Target="../media/hzipup01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DRIVEBY.WAV"/><Relationship Id="rId15" Type="http://schemas.openxmlformats.org/officeDocument/2006/relationships/audio" Target="../media/boinng04.wav"/><Relationship Id="rId16" Type="http://schemas.openxmlformats.org/officeDocument/2006/relationships/audio" Target="../media/mac.wav"/><Relationship Id="rId17" Type="http://schemas.openxmlformats.org/officeDocument/2006/relationships/audio" Target="../media/mac.wav"/><Relationship Id="rId18" Type="http://schemas.openxmlformats.org/officeDocument/2006/relationships/audio" Target="../media/mac.wav"/><Relationship Id="rId19" Type="http://schemas.openxmlformats.org/officeDocument/2006/relationships/audio" Target="../media/DRIVEBY.WAV"/><Relationship Id="rId20" Type="http://schemas.openxmlformats.org/officeDocument/2006/relationships/audio" Target="../media/title.wav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95280" y="228600"/>
            <a:ext cx="677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NOTES  OVER  RADICA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42" name=""/>
          <p:cNvSpPr txBox="1"/>
          <p:nvPr/>
        </p:nvSpPr>
        <p:spPr>
          <a:xfrm rot="5400000">
            <a:off x="-2504880" y="3190680"/>
            <a:ext cx="6086520" cy="61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SIMPLIFY</a:t>
            </a:r>
            <a:endParaRPr b="1" i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47920" y="990720"/>
                <a:ext cx="373356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057400" y="2057400"/>
                <a:ext cx="49863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191120" y="2209680"/>
                <a:ext cx="129528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410080" y="2209680"/>
                <a:ext cx="1276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 rot="10800000">
                <a:off x="1981080" y="3276720"/>
                <a:ext cx="6256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438280" y="3505320"/>
                <a:ext cx="6098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971800" y="3200400"/>
                <a:ext cx="8888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657600" y="3124080"/>
                <a:ext cx="27432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800600" y="3429000"/>
                <a:ext cx="9907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447920" y="4343400"/>
                <a:ext cx="2305080" cy="21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581280" y="4419720"/>
                <a:ext cx="1067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581280" y="5486400"/>
                <a:ext cx="1067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733920" y="5486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648320" y="5200560"/>
                <a:ext cx="6858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105520" y="4343400"/>
                <a:ext cx="16002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638680" y="5562720"/>
                <a:ext cx="5446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410080" y="548640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553080" y="5181480"/>
                <a:ext cx="6858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238880" y="4724280"/>
                <a:ext cx="397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467480" y="4495680"/>
                <a:ext cx="1028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7391520" y="5486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696080" y="5562720"/>
                <a:ext cx="5446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OOR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OOR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295280" y="228600"/>
            <a:ext cx="677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NOTES  OVER  RADICA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66" name=""/>
          <p:cNvSpPr txBox="1"/>
          <p:nvPr/>
        </p:nvSpPr>
        <p:spPr>
          <a:xfrm rot="5400000">
            <a:off x="-2504880" y="3190680"/>
            <a:ext cx="6086520" cy="61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SIMPLIFY</a:t>
            </a:r>
            <a:endParaRPr b="1" i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295280" y="1143000"/>
                <a:ext cx="272412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962520" y="1447920"/>
                <a:ext cx="21081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962520" y="1143000"/>
                <a:ext cx="20192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962520" y="1981080"/>
                <a:ext cx="20192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828800" y="3276720"/>
                <a:ext cx="2743200" cy="17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752480" y="3276720"/>
                <a:ext cx="121932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819520" y="3200400"/>
                <a:ext cx="20239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05120" y="4114800"/>
                <a:ext cx="9144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743200" y="4038480"/>
                <a:ext cx="17524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181480" y="3276720"/>
                <a:ext cx="2743200" cy="17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029200" y="3276720"/>
                <a:ext cx="121932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095880" y="3200400"/>
                <a:ext cx="17640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410080" y="4114800"/>
                <a:ext cx="9144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324480" y="4114800"/>
                <a:ext cx="12956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72000" y="3886200"/>
                <a:ext cx="596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828800" y="5138640"/>
                <a:ext cx="27432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828800" y="5062680"/>
                <a:ext cx="121932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743200" y="5900760"/>
                <a:ext cx="9144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962520" y="2819520"/>
                <a:ext cx="107316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895480" y="5029200"/>
                <a:ext cx="17640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imrcv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295280" y="228600"/>
            <a:ext cx="677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NOTES  OVER  RADICA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88" name=""/>
          <p:cNvSpPr txBox="1"/>
          <p:nvPr/>
        </p:nvSpPr>
        <p:spPr>
          <a:xfrm rot="5400000">
            <a:off x="-2504880" y="3190680"/>
            <a:ext cx="6086520" cy="61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SIMPLIFY</a:t>
            </a:r>
            <a:endParaRPr b="1" i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081080" y="1295280"/>
                <a:ext cx="596736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971800" y="1409760"/>
                <a:ext cx="838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200400" y="2209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971800" y="2209680"/>
                <a:ext cx="838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114800" y="2362320"/>
                <a:ext cx="1143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752480" y="2971800"/>
                <a:ext cx="14796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752480" y="3809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09680" y="3809880"/>
                <a:ext cx="536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124080" y="3276720"/>
                <a:ext cx="17337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724280" y="3657600"/>
                <a:ext cx="5968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334120" y="2895480"/>
                <a:ext cx="14796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410080" y="3733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791320" y="3733920"/>
                <a:ext cx="5443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1752480" y="3352320"/>
            <a:ext cx="6098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371600" y="2895480"/>
                <a:ext cx="471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 flipV="1">
            <a:off x="2133720" y="403812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666880" y="4114800"/>
                <a:ext cx="32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 flipV="1">
            <a:off x="5334120" y="3276720"/>
            <a:ext cx="6094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257800" y="2666880"/>
                <a:ext cx="5302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 flipV="1">
            <a:off x="5791320" y="3962520"/>
            <a:ext cx="6094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248520" y="4038480"/>
                <a:ext cx="325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23880" y="4724280"/>
                <a:ext cx="45975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666880" y="5562720"/>
                <a:ext cx="18860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cover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9749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95280" y="228600"/>
            <a:ext cx="677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NOTES  OVER  RADICA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-2504880" y="3190680"/>
            <a:ext cx="6086520" cy="61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solve</a:t>
            </a:r>
            <a:endParaRPr b="1" i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523880" y="1905120"/>
                <a:ext cx="593424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209680" y="1752480"/>
            <a:ext cx="373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1752480"/>
            <a:ext cx="3733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(  )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666880" y="3200400"/>
                <a:ext cx="29052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-5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181480" y="3505320"/>
                <a:ext cx="596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791320" y="3200400"/>
                <a:ext cx="11937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438280" y="3962520"/>
                <a:ext cx="17431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257800" y="3962520"/>
                <a:ext cx="17431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438280" y="480060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419720" y="4724280"/>
                <a:ext cx="82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181480" y="4952880"/>
                <a:ext cx="596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4038480"/>
                <a:ext cx="14763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791320" y="4800600"/>
                <a:ext cx="9270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648320" y="5334120"/>
                <a:ext cx="38480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,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343400" y="1143000"/>
                <a:ext cx="1378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791320" y="1371600"/>
                <a:ext cx="596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553080" y="1143000"/>
                <a:ext cx="12193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6324480" y="1600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533412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010280" y="5257440"/>
            <a:ext cx="14479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23880" y="5334120"/>
                <a:ext cx="215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447920" y="5181480"/>
            <a:ext cx="2438280" cy="13716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781680" y="4038480"/>
                <a:ext cx="14763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  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oorSla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oorSla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oorSla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orSla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i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el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95280" y="228600"/>
            <a:ext cx="677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NOTES  OVER  RADICA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40" name=""/>
          <p:cNvSpPr txBox="1"/>
          <p:nvPr/>
        </p:nvSpPr>
        <p:spPr>
          <a:xfrm rot="5400000">
            <a:off x="-2504880" y="3190680"/>
            <a:ext cx="6086520" cy="61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Solve</a:t>
            </a:r>
            <a:endParaRPr b="1" i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057400" y="990720"/>
                <a:ext cx="4718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286000" y="3352680"/>
                <a:ext cx="54288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819520" y="3276720"/>
                <a:ext cx="46688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7600" y="3429000"/>
                <a:ext cx="762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495680" y="3352680"/>
                <a:ext cx="998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2286000" y="411480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419720" y="4114800"/>
                <a:ext cx="583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00200" y="5257800"/>
                <a:ext cx="5428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133720" y="5181480"/>
                <a:ext cx="3224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048120" y="5257800"/>
                <a:ext cx="8175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371600" y="60199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71800" y="6095880"/>
                <a:ext cx="584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486400" y="3352680"/>
                <a:ext cx="83196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72200" y="3352680"/>
                <a:ext cx="13795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5410080"/>
                <a:ext cx="54288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324480" y="5334120"/>
                <a:ext cx="22068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5410080"/>
                <a:ext cx="11109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715000" y="61722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629400" y="6095880"/>
                <a:ext cx="584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733920" y="5257800"/>
                <a:ext cx="14652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133720" y="2057400"/>
                <a:ext cx="47178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m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m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m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it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38080" y="1523880"/>
            <a:ext cx="75438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Jokerman"/>
              </a:rPr>
              <a:t>Book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Jokerman"/>
              </a:rPr>
              <a:t>pg. 662 #1-8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Jokerman"/>
              </a:rPr>
              <a:t>odd probl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2" name="APPLAUSE.WAV"/>
      </p:stSnd>
    </p:sndAc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75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6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75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7425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75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4:50:07Z</dcterms:created>
  <dc:creator>CCSS</dc:creator>
  <dc:description/>
  <dc:language>en-US</dc:language>
  <cp:lastModifiedBy>damon.skelton</cp:lastModifiedBy>
  <dcterms:modified xsi:type="dcterms:W3CDTF">2003-05-06T13:48:50Z</dcterms:modified>
  <cp:revision>9</cp:revision>
  <dc:subject/>
  <dc:title>No Slide Title</dc:title>
</cp:coreProperties>
</file>